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D6A9-4C50-4A57-B13E-5607D9F77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6F32-E64B-4756-9D8D-C2F8FF982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6A0A-59F9-4C11-8BA8-F22486A2D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A7CD-3C35-43B7-9438-59DCD110A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6B6E-5348-45BA-9E59-44EE6039A7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6C6A-B110-48F0-9949-0296E69556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2A97-8939-4500-9A3F-0CE39E66EF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A67F-421C-42B3-9561-32FA52B6F4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39C1-EAD6-4710-AC6F-5C81E5067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2C2E-7E62-4DAE-A410-2FD10889B8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2529-111B-4D62-9CF4-64E7D645D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4D21-A08C-430C-B94C-F75ACE87B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A9E7-D6FC-4B23-9F7D-B727FAAD7F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2FBC-56CE-47A5-BCCF-540F4A9ACE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22B4-B6CA-4309-999E-F0FA492E52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5076-8C94-4B93-902D-9719F56BD4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04FB-6522-48FF-A88A-0647EB275D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AEF-B613-46F9-AE5E-0B07666E75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B67-4FCA-47CA-8463-DF90E9B093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C25-9D2A-43C3-9F90-E85CB72A5B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0D2-5AD3-40F4-A88C-C5E95C1718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DCC-27CB-40AD-8801-9759695A0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7AF8-F6C9-41EE-9F09-343F53A234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F6D-DE24-41A3-8C2D-AAAB389D27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0E8-AAD8-4D43-BF09-0AF0FD8AB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C75-A62C-463A-95D2-5A0B0DC474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888-6C55-4090-BF03-6617822816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386-64EA-479C-B942-E603968725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C39-3933-4223-B4C6-E268625071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2E5-F8A4-4072-A5EB-C2D6AA13D2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D71C8-8FD9-4620-89DD-8D79158A5F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75397-F9A0-4728-AB76-F336B86936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02B72-BB43-4733-913E-67086A762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28CA-A728-48CA-BFE1-3507F60E04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54075-AE1E-432C-BE48-875102F7FB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21F20-8AFE-4DEE-A292-32D6A2D506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ED0F0-A678-4F0F-BD22-2FD958E42B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4FF5C-078C-4A47-A12F-C20879370A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049A8-4EDE-4924-A0D8-7ACC13722D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B456C-3C11-42CD-9B76-22FC51DEB4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F9B2D-16FB-458D-808C-96FA80C706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3E9B2-BC5C-4AFA-9DAA-9C775B4D90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718AD-2CBA-4BD2-9FC6-7B8789E58D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254F4-AADB-4DDB-87C0-DF3B8C386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6D39-336E-4963-A7FF-73474D6396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9C28D-7BA8-4146-AA4A-B79D3941F53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E6559-A7A9-4A22-A43E-B544B06F457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8A89F-A264-4590-A04A-ADCE01F96A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ED4B2-DA9B-43E3-9B06-77DE024C6C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0D137-14DD-411B-B3CA-A9CF24F41E9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4477F-58EC-452B-9B9F-D34D7ABD98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9FF1C-0C0C-4307-902B-EE5BC130D21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92469-D2B2-4907-892B-38987AAEBF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FBCF6-CE35-4C30-8048-E7B2C8BA70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2C9C5-F89C-49DD-8F66-1614171CB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F79B-8B7F-492E-A7EC-01AF085EA8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FA5CB-6770-48AD-AF14-035764C32C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497B-A115-46B2-A16A-82DCDC0DCC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AC9F-FD72-4132-93D6-D48A4113AE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612F-94EB-45FC-87A8-6E58507C4C4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A974-571E-472B-8880-00CCFF490C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FDFA-9022-43A5-837B-A1DBA1D196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C330-52B5-4475-8DFB-CDCB6615CD2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EB73-3C61-451B-81E3-A41D9D5ED8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3AA1-A9C8-4278-A259-6F9E6811CD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3023-DE11-4B8C-97D4-E53DAF37D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3D19-CE65-4D53-9CAA-D58149DC3BA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A021-911F-4A5A-9C2C-16EBE14F71E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CB5A-389F-4F0B-95FE-89AA3DFCE7F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CB0E-6329-4C1C-8D2F-76B36AAA7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BEB6-8CC0-4BD9-BF5A-CB7842251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A2D6-AB38-435F-AD8B-D1B1771CF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1E1B6ABB-816C-4FAF-A575-98AD1F31F942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248600" y="6161040"/>
            <a:ext cx="1054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A64538B7-852F-448C-B4E6-65F3A166EC2C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7153200" y="6151320"/>
            <a:ext cx="1533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327524E1-A23A-4E49-AA80-D2F5371F4D5F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6648480" y="6151320"/>
            <a:ext cx="2038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44D22C6B-89B1-413A-9EFB-00699BD55E19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5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A789DB5C-A5EE-4FCF-B84C-8DEF9C044AD9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ing Invest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6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FE7C0226-7CD3-4989-B512-5DAA5AE45E8B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8436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omparing Investments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226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Odd One Out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69F7C075-E12E-4E2E-AC61-36AC41705546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3164040" y="1450800"/>
            <a:ext cx="283680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nterest Rate: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3164040" y="3065400"/>
            <a:ext cx="283680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nterest Rate: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3164040" y="4782960"/>
            <a:ext cx="283680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nterest Rate: 1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Odd One Out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3F54BC99-F551-42D1-86A5-DF2340826550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3286080" y="1363680"/>
            <a:ext cx="257004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× 1.0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3286080" y="3097080"/>
            <a:ext cx="257004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0 × 1.0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286080" y="4757760"/>
            <a:ext cx="257004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× 1.0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Double Your Money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8468B810-E6F7-4A7F-8494-A68F5BB023C6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3346560" y="1149480"/>
            <a:ext cx="257004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× 1.06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3346560" y="2660760"/>
            <a:ext cx="257004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0 × 1.06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3346560" y="4145040"/>
            <a:ext cx="257004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× 1.03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6230880" y="255096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wo investments will take exactly the same time to double the mone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Double Your Money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D407E963-DD80-446E-B19C-D34D61B20D68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3179880" y="1127160"/>
            <a:ext cx="256860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0 + 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179880" y="2616120"/>
            <a:ext cx="256860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0 + 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3179880" y="4083120"/>
            <a:ext cx="2568600" cy="1191240"/>
          </a:xfrm>
          <a:prstGeom prst="rect">
            <a:avLst/>
          </a:prstGeom>
          <a:noFill/>
          <a:ln w="936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0 + 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6230880" y="255096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wo investments will take exactly the same time to double the mone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0:52:53Z</dcterms:created>
  <dc:creator>Daniel</dc:creator>
  <dc:description/>
  <cp:keywords/>
  <dc:language>en-US</dc:language>
  <cp:lastModifiedBy>Judith Mills</cp:lastModifiedBy>
  <cp:lastPrinted>2010-10-21T12:22:38Z</cp:lastPrinted>
  <dcterms:modified xsi:type="dcterms:W3CDTF">2012-04-12T09:49:34Z</dcterms:modified>
  <cp:revision>41</cp:revision>
  <dc:subject/>
  <dc:title>Solving Linear Equations in Two Variables </dc:title>
</cp:coreProperties>
</file>